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4E7-768C-4B79-943A-BD986F7F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34A-0279-4C8B-A456-362371BA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A2A-0998-4B06-A636-E0654D66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428-0235-4220-A2A3-746B8C6B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ECD3-76A0-4EB0-B4AF-7B1D618C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4D4C-4FE9-44FD-AB27-25567913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3A99-DFF3-47F8-8F1A-5082DB9F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76EA-CF67-47D4-9D21-5D07498E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0983-43E0-4551-94E1-DD14C518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0E39-9AA1-4B31-BA66-E6D2B98A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F9C4-DAD3-4C15-9627-41B0576C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AD39-AB85-49C6-8FA6-86D23B1A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EC9B-70DF-48A8-8951-A947D7B9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0ED0-1FB3-4226-AA79-CAB52047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2223-B0E1-4161-9EFA-210CA023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2BA5-B533-4563-BBC7-41CA61B5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C239-936A-4CFF-A5CE-20B9CE7E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591-2276-4DBA-B601-616EE209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82E-9A40-4555-B01B-3B549E87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A89-1FD2-4E0C-9A4D-20F9F45B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FC5-1D02-4CC0-A4E9-8D60763C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B31-77A4-4AFC-8BD9-C88BABD2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9CC-7FEF-434C-B1AF-338671B5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D90-B8AE-4CA8-B107-84A53543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EDFB-6CDE-493E-A504-9C705C89B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948A-AB49-41FE-AA72-8A191DAA1D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24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25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26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6002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8200" y="17524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5840" y="17524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3880" y="17524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1800" y="1752480"/>
            <a:ext cx="14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28440" y="2387520"/>
            <a:ext cx="5974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Which one is full of respec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ectfully or Respectiv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Which one shows the order indica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ectfully or Respectiv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822760" y="3048120"/>
            <a:ext cx="299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ectful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ective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17760" y="2819520"/>
            <a:ext cx="603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is used with plural amoun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and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and Am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69040" y="3124080"/>
            <a:ext cx="37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wer and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360160" y="2971800"/>
            <a:ext cx="44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l right or Alrig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660120" y="312408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r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00200" y="243828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“south” should be capitaliz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live south of Wiscons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live in the south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42240" y="2971800"/>
            <a:ext cx="405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p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live in the Sou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83960" y="2720880"/>
            <a:ext cx="728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in the class is shorter than I (am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in the class is shorter than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18360" y="3048120"/>
            <a:ext cx="71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in the class is shorter than 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43200" y="2590920"/>
            <a:ext cx="327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- Attend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 Attend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- Atend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- Atand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24720" y="243828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Which one means to leave a count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igrate or Immigr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Which one means to en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igrate or Immigr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25880" y="2971800"/>
            <a:ext cx="286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migr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mmigra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28200" y="2971800"/>
            <a:ext cx="62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one means distinguish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inent or Immin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582360" y="2971800"/>
            <a:ext cx="190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mi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1800" y="3168720"/>
            <a:ext cx="59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should use a comma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can substitute what wor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116240" y="297180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89040" y="3048120"/>
            <a:ext cx="78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tead of boughten you should use w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96120" y="3048120"/>
            <a:ext cx="733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ore-bought, ready-made, commeric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 not homem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906920" y="3200400"/>
            <a:ext cx="52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ppose to or Supposed to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970000" y="3048120"/>
            <a:ext cx="293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pposed 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70720" y="3124080"/>
            <a:ext cx="30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 Attend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45880" y="3200400"/>
            <a:ext cx="68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should you hyphenate wor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2280" y="28195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two or more words are used as an adjecti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449360" y="304812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ryone is or Everyone a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507840" y="304812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39040" y="2666880"/>
            <a:ext cx="89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needs to turn in home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needs to turn in his or her home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$200 Answer from H4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94320" y="2971800"/>
            <a:ext cx="70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needs to turn in home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995760" y="2590920"/>
            <a:ext cx="694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nce I went home, I fell aslee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ing that I went home, I fell aslee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375920" y="3124080"/>
            <a:ext cx="60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nce I went home, I fell aslee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2520" y="3168720"/>
            <a:ext cx="50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kind or these kin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046320" y="2743200"/>
            <a:ext cx="28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ki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973600" y="2514600"/>
            <a:ext cx="308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- Sofm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- Sopohom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- Sophom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- Sophm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821320" y="2819520"/>
            <a:ext cx="319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tc. or Ect.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887280" y="2895480"/>
            <a:ext cx="106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842400" y="2514600"/>
            <a:ext cx="72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helves look brok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helves look as if they are brok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66440" y="3124080"/>
            <a:ext cx="72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helves look as if they are brok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441520" y="30481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avily or Heavi-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276720" y="297180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avi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1200" y="266688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665800" y="2895480"/>
            <a:ext cx="34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- Sophomo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137320" y="2895480"/>
            <a:ext cx="50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games do we pl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amural or Innermur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508200" y="304812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amu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02880" y="2362320"/>
            <a:ext cx="7468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was born on July 7, 1992, in Galesbur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was born on July 7, 1992 in Galesbur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6720" y="2362320"/>
            <a:ext cx="83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ho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b was born on July 7, 1992, in Galesbur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27</cp:lastModifiedBy>
  <dcterms:modified xsi:type="dcterms:W3CDTF">2010-05-19T13:16:40Z</dcterms:modified>
  <cp:revision>16</cp:revision>
  <dc:subject/>
  <dc:title>Jeopardy</dc:title>
</cp:coreProperties>
</file>